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856-6CDE-4082-85B5-645BFEDB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95D-8FC7-4D2D-82F1-354AF290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207-1C4E-49B0-B856-EA3C10A8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AF1-9D31-460E-977A-A8689FE6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9EC9-3BC0-4CBC-B505-75CC9527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3B36-790A-403A-B2E6-B568865B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EB46-ACEF-467B-BEF5-7395DA37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E354-6244-4B01-96E0-7184B897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41EE-712A-4360-9D7B-4E721FC1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423A-3D98-49F4-A6FC-9CE31440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ACF9-6D8C-48C4-82B5-7B822BE2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35C-C1D2-434B-9E24-E900968B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0C68-3209-4772-8CA7-C850B166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B709-D17C-4FD7-9FCE-32A17296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8A08-81CE-44D5-92BF-CF94CC5F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0685-E9EB-4DBE-A52D-EEA56EB5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4244-6ACD-4CC7-9A43-26C78C62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C0D-318D-45A3-928D-3DCD9D69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7C5-CF6D-4879-99D2-6C8588DD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AF0-7FDC-4EF8-BC95-26A19083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4FF-9CE7-4E20-B437-36E19AA7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292-6857-4413-B469-3AADBE63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9E5-1CEA-4D2A-AEBE-A4AABD53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B98-78FF-4174-ADAC-B63ADA98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3D3D-83BD-440D-8A06-FF48EE7BA4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D4E4-3CEA-4A6A-BA40-FBBC32FCD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Заголовок 1"/>
          <p:cNvGrpSpPr/>
          <p:nvPr/>
        </p:nvGrpSpPr>
        <p:grpSpPr>
          <a:xfrm>
            <a:off x="-55440" y="-30240"/>
            <a:ext cx="9254880" cy="6967440"/>
            <a:chOff x="-55440" y="-30240"/>
            <a:chExt cx="9254880" cy="6967440"/>
          </a:xfrm>
        </p:grpSpPr>
        <p:pic>
          <p:nvPicPr>
            <p:cNvPr id="12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55440" y="-30240"/>
              <a:ext cx="925488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1e1c11"/>
                  </a:solidFill>
                  <a:latin typeface="Calibri"/>
                </a:rPr>
                <a:t>Презентац</a:t>
              </a:r>
              <a:r>
                <a:rPr b="0" lang="ru-RU" sz="6000" spc="-1" strike="noStrike">
                  <a:solidFill>
                    <a:srgbClr val="1e1c11"/>
                  </a:solidFill>
                  <a:latin typeface="Arial"/>
                </a:rPr>
                <a:t>і</a:t>
              </a:r>
              <a:r>
                <a:rPr b="0" lang="ru-RU" sz="6000" spc="-1" strike="noStrike">
                  <a:solidFill>
                    <a:srgbClr val="1e1c11"/>
                  </a:solidFill>
                  <a:latin typeface="Calibri"/>
                </a:rPr>
                <a:t>я</a:t>
              </a:r>
              <a:br>
                <a:rPr sz="4400"/>
              </a:br>
              <a:r>
                <a:rPr b="0" lang="ru-RU" sz="4400" spc="-1" strike="noStrike">
                  <a:solidFill>
                    <a:srgbClr val="1e1c11"/>
                  </a:solidFill>
                  <a:latin typeface="Calibri"/>
                </a:rPr>
                <a:t>на тему: «</a:t>
              </a:r>
              <a:r>
                <a:rPr b="0" lang="ru-RU" sz="4400" spc="-1" strike="noStrike">
                  <a:solidFill>
                    <a:srgbClr val="1e1c11"/>
                  </a:solidFill>
                  <a:latin typeface="Arial"/>
                </a:rPr>
                <a:t>Що таке злочин?</a:t>
              </a:r>
              <a:r>
                <a:rPr b="0" lang="ru-RU" sz="4400" spc="-1" strike="noStrike">
                  <a:solidFill>
                    <a:srgbClr val="1e1c11"/>
                  </a:solidFill>
                  <a:latin typeface="Calibri"/>
                </a:rPr>
                <a:t>»</a:t>
              </a:r>
              <a:br>
                <a:rPr sz="4400"/>
              </a:br>
              <a:endParaRPr b="0" lang="en-US" sz="4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22" name="Рисунок 6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237636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Объект 4" descr=""/>
          <p:cNvPicPr/>
          <p:nvPr/>
        </p:nvPicPr>
        <p:blipFill>
          <a:blip r:embed="rId1"/>
          <a:srcRect l="0" t="0" r="3380" b="0"/>
          <a:stretch/>
        </p:blipFill>
        <p:spPr>
          <a:xfrm>
            <a:off x="4140360" y="0"/>
            <a:ext cx="51339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6" name="Текст 3"/>
          <p:cNvGrpSpPr/>
          <p:nvPr/>
        </p:nvGrpSpPr>
        <p:grpSpPr>
          <a:xfrm>
            <a:off x="-252360" y="0"/>
            <a:ext cx="4703400" cy="6967440"/>
            <a:chOff x="-252360" y="0"/>
            <a:chExt cx="4703400" cy="6967440"/>
          </a:xfrm>
        </p:grpSpPr>
        <p:pic>
          <p:nvPicPr>
            <p:cNvPr id="157" name="Текст 3" descr=""/>
            <p:cNvPicPr/>
            <p:nvPr/>
          </p:nvPicPr>
          <p:blipFill>
            <a:blip r:embed="rId2"/>
            <a:stretch/>
          </p:blipFill>
          <p:spPr>
            <a:xfrm>
              <a:off x="-252360" y="0"/>
              <a:ext cx="470340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-23040" y="30240"/>
              <a:ext cx="4238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Види кримінального покарання: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•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громадські роботи;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•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виправні роботи;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•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арешт кримінальний;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•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позбавлення волі на певний строк;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•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довічне позбавлення волі;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•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конфіскація майна;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•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штраф;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•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позбавлення права обіймати певні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посади;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•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займатися певним видом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діяльності.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Объект 2"/>
          <p:cNvGrpSpPr/>
          <p:nvPr/>
        </p:nvGrpSpPr>
        <p:grpSpPr>
          <a:xfrm>
            <a:off x="-208080" y="-30240"/>
            <a:ext cx="9407520" cy="6967440"/>
            <a:chOff x="-208080" y="-30240"/>
            <a:chExt cx="9407520" cy="6967440"/>
          </a:xfrm>
        </p:grpSpPr>
        <p:pic>
          <p:nvPicPr>
            <p:cNvPr id="160" name="Объект 2" descr=""/>
            <p:cNvPicPr/>
            <p:nvPr/>
          </p:nvPicPr>
          <p:blipFill>
            <a:blip r:embed="rId1"/>
            <a:stretch/>
          </p:blipFill>
          <p:spPr>
            <a:xfrm>
              <a:off x="-208080" y="-30240"/>
              <a:ext cx="94075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            </a:t>
              </a:r>
              <a:r>
                <a:rPr b="1" lang="uk-UA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Обставини, що виключають злочинність діяння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                                        </a:t>
              </a:r>
              <a:r>
                <a:rPr b="1" lang="uk-UA" sz="18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-   </a:t>
              </a:r>
              <a:r>
                <a:rPr b="0" lang="uk-UA" sz="18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</a:t>
              </a:r>
              <a:r>
                <a:rPr b="0" lang="uk-UA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необхідна оборона;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                             </a:t>
              </a:r>
              <a:r>
                <a:rPr b="0" lang="uk-UA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-    крайня необхідність;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                             </a:t>
              </a:r>
              <a:r>
                <a:rPr b="0" lang="uk-UA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-    затримання особи, що вчинила злочин;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                             </a:t>
              </a:r>
              <a:r>
                <a:rPr b="0" lang="uk-UA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-    фізичний або психічний примус;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                             </a:t>
              </a:r>
              <a:r>
                <a:rPr b="0" lang="uk-UA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-    виконання наказу або розпорядження;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                             </a:t>
              </a:r>
              <a:r>
                <a:rPr b="0" lang="uk-UA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-    виправданий ризик;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                             </a:t>
              </a:r>
              <a:r>
                <a:rPr b="0" lang="uk-UA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-    виконання спеціального завдання.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62" name="Picture 2" descr="C:\Program Files\Microsoft Office\MEDIA\CAGCAT10\j0301252.wmf"/>
          <p:cNvPicPr/>
          <p:nvPr/>
        </p:nvPicPr>
        <p:blipFill>
          <a:blip r:embed="rId2"/>
          <a:stretch/>
        </p:blipFill>
        <p:spPr>
          <a:xfrm>
            <a:off x="7164360" y="5084640"/>
            <a:ext cx="1828800" cy="156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Program Files\Microsoft Office\MEDIA\CAGCAT10\j0300840.wmf"/>
          <p:cNvPicPr/>
          <p:nvPr/>
        </p:nvPicPr>
        <p:blipFill>
          <a:blip r:embed="rId3"/>
          <a:stretch/>
        </p:blipFill>
        <p:spPr>
          <a:xfrm>
            <a:off x="250920" y="1197000"/>
            <a:ext cx="1815840" cy="152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Заголовок 1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419960" cy="104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324000" y="1628640"/>
          <a:ext cx="8569080" cy="4743720"/>
        </p:xfrm>
        <a:graphic>
          <a:graphicData uri="http://schemas.openxmlformats.org/drawingml/2006/table">
            <a:tbl>
              <a:tblPr/>
              <a:tblGrid>
                <a:gridCol w="1995480"/>
                <a:gridCol w="2284200"/>
                <a:gridCol w="42894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ття 383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ідомо неправдиве повідомлення про вчинення злочин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4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Завідомо неправдиве повідомлення суду, прокурору, слідчому або органу дізнання про вчинення злочин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>
                      <a:noFill/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Виправні роботи на строк до 2 років або арештом на строк до 6 місяців, або обмеженням волі на строк до 3 років, або позбавленням волі на строк до 2 рокі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>
                      <a:noFill/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таття 383.</a:t>
                      </a:r>
                      <a:r>
                        <a:rPr b="1" lang="uk-UA" sz="22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a34b7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Завідомо неправдиве показанн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a34b7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4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Завідомо неправдиве показання свідка чи потерпілог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Виправні роботи на строк до 2 років або арештом на строк до 6 місяців, або обмеженням волі на строк до 2 рокі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166" name="Рисунок 2" descr=""/>
          <p:cNvPicPr/>
          <p:nvPr/>
        </p:nvPicPr>
        <p:blipFill>
          <a:blip r:embed="rId2"/>
          <a:stretch/>
        </p:blipFill>
        <p:spPr>
          <a:xfrm>
            <a:off x="7524720" y="11592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Объект 2"/>
          <p:cNvGrpSpPr/>
          <p:nvPr/>
        </p:nvGrpSpPr>
        <p:grpSpPr>
          <a:xfrm>
            <a:off x="-244440" y="-189000"/>
            <a:ext cx="9388440" cy="7046640"/>
            <a:chOff x="-244440" y="-189000"/>
            <a:chExt cx="9388440" cy="7046640"/>
          </a:xfrm>
        </p:grpSpPr>
        <p:pic>
          <p:nvPicPr>
            <p:cNvPr id="168" name="Объект 2" descr=""/>
            <p:cNvPicPr/>
            <p:nvPr/>
          </p:nvPicPr>
          <p:blipFill>
            <a:blip r:embed="rId1"/>
            <a:stretch/>
          </p:blipFill>
          <p:spPr>
            <a:xfrm>
              <a:off x="-244440" y="-189000"/>
              <a:ext cx="9388440" cy="70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-55440" y="-7920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buClr>
                  <a:srgbClr val="1e1c1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268360" y="404640"/>
            <a:ext cx="4562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80808"/>
                </a:solidFill>
                <a:latin typeface="Arial"/>
                <a:ea typeface="Arial"/>
              </a:rPr>
              <a:t>Як уберегтися від грабежів і насильства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c6c6c"/>
                </a:solidFill>
                <a:latin typeface="Arial"/>
                <a:ea typeface="Arial"/>
              </a:rPr>
              <a:t>Не ходіть поодинці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c6c6c"/>
                </a:solidFill>
                <a:latin typeface="Arial"/>
                <a:ea typeface="Arial"/>
              </a:rPr>
              <a:t>Будьте уважними до нових знайомств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c6c6c"/>
                </a:solidFill>
                <a:latin typeface="Arial"/>
                <a:ea typeface="Arial"/>
              </a:rPr>
              <a:t>Не вживайте алкоголь або наркотик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c6c6c"/>
                </a:solidFill>
                <a:latin typeface="Arial"/>
                <a:ea typeface="Arial"/>
              </a:rPr>
              <a:t>Не панікуйте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c6c6c"/>
                </a:solidFill>
                <a:latin typeface="Arial"/>
                <a:ea typeface="Arial"/>
              </a:rPr>
              <a:t>Дійте спокійно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c6c6c"/>
                </a:solidFill>
                <a:latin typeface="Arial"/>
                <a:ea typeface="Arial"/>
              </a:rPr>
              <a:t>Якщо вас переслідують – прямуйте до людних місць, перейдіть на біг, кричіть: пожежа! Горимо!”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Объект 2"/>
          <p:cNvGrpSpPr/>
          <p:nvPr/>
        </p:nvGrpSpPr>
        <p:grpSpPr>
          <a:xfrm>
            <a:off x="-55440" y="-109440"/>
            <a:ext cx="9254880" cy="7046640"/>
            <a:chOff x="-55440" y="-109440"/>
            <a:chExt cx="9254880" cy="7046640"/>
          </a:xfrm>
        </p:grpSpPr>
        <p:pic>
          <p:nvPicPr>
            <p:cNvPr id="173" name="Объект 2" descr=""/>
            <p:cNvPicPr/>
            <p:nvPr/>
          </p:nvPicPr>
          <p:blipFill>
            <a:blip r:embed="rId1"/>
            <a:stretch/>
          </p:blipFill>
          <p:spPr>
            <a:xfrm>
              <a:off x="-55440" y="-109440"/>
              <a:ext cx="9254880" cy="70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1e1c11"/>
                  </a:solidFill>
                  <a:latin typeface="Calibri"/>
                </a:rPr>
                <a:t>                       </a:t>
              </a:r>
              <a:r>
                <a:rPr b="0" lang="ru-RU" sz="3200" spc="-1" strike="noStrike">
                  <a:solidFill>
                    <a:srgbClr val="1e1c11"/>
                  </a:solidFill>
                  <a:latin typeface="Calibri"/>
                </a:rPr>
                <a:t>Над презентацією працював: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1e1c11"/>
                  </a:solidFill>
                  <a:latin typeface="Calibri"/>
                </a:rPr>
                <a:t>              </a:t>
              </a:r>
              <a:r>
                <a:rPr b="0" lang="ru-RU" sz="4400" spc="-1" strike="noStrike">
                  <a:solidFill>
                    <a:srgbClr val="1e1c11"/>
                  </a:solidFill>
                  <a:latin typeface="Calibri"/>
                </a:rPr>
                <a:t>Рябуха Микола Семенович</a:t>
              </a:r>
              <a:endParaRPr b="0" lang="en-US" sz="4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1e1c11"/>
                  </a:solidFill>
                  <a:latin typeface="Calibri"/>
                </a:rPr>
                <a:t>	</a:t>
              </a:r>
              <a:r>
                <a:rPr b="0" lang="ru-RU" sz="3200" spc="-1" strike="noStrike">
                  <a:solidFill>
                    <a:srgbClr val="1e1c11"/>
                  </a:solidFill>
                  <a:latin typeface="Calibri"/>
                </a:rPr>
                <a:t>	</a:t>
              </a:r>
              <a:r>
                <a:rPr b="0" lang="ru-RU" sz="3200" spc="-1" strike="noStrike">
                  <a:solidFill>
                    <a:srgbClr val="1e1c11"/>
                  </a:solidFill>
                  <a:latin typeface="Calibri"/>
                </a:rPr>
                <a:t>      </a:t>
              </a:r>
              <a:r>
                <a:rPr b="0" lang="ru-RU" sz="4800" spc="-1" strike="noStrike">
                  <a:solidFill>
                    <a:srgbClr val="1e1c11"/>
                  </a:solidFill>
                  <a:latin typeface="Calibri"/>
                </a:rPr>
                <a:t>Дякую за увагу!</a:t>
              </a:r>
              <a:endParaRPr b="0" lang="en-US" sz="4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75" name="Picture 2" descr="C:\Program Files\Microsoft Office\MEDIA\CAGCAT10\j0205466.wmf"/>
          <p:cNvPicPr/>
          <p:nvPr/>
        </p:nvPicPr>
        <p:blipFill>
          <a:blip r:embed="rId2"/>
          <a:stretch/>
        </p:blipFill>
        <p:spPr>
          <a:xfrm>
            <a:off x="5435640" y="4437000"/>
            <a:ext cx="3112920" cy="1954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C:\Program Files\Microsoft Office\MEDIA\CAGCAT10\j0300840.wmf"/>
          <p:cNvPicPr/>
          <p:nvPr/>
        </p:nvPicPr>
        <p:blipFill>
          <a:blip r:embed="rId3"/>
          <a:stretch/>
        </p:blipFill>
        <p:spPr>
          <a:xfrm>
            <a:off x="0" y="476280"/>
            <a:ext cx="1816200" cy="1528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Подзаголовок 2"/>
          <p:cNvGrpSpPr/>
          <p:nvPr/>
        </p:nvGrpSpPr>
        <p:grpSpPr>
          <a:xfrm>
            <a:off x="-55440" y="-30240"/>
            <a:ext cx="9254880" cy="6967440"/>
            <a:chOff x="-55440" y="-30240"/>
            <a:chExt cx="9254880" cy="6967440"/>
          </a:xfrm>
        </p:grpSpPr>
        <p:pic>
          <p:nvPicPr>
            <p:cNvPr id="124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-55440" y="-30240"/>
              <a:ext cx="925488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8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Злочин</a:t>
              </a:r>
              <a:r>
                <a:rPr b="0" lang="uk-UA" sz="38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— це протиправне  суспільно небезпечне діяння (дія чи бездіяльність), скоєне особою, яка може нести відповідальність і передбачене Кримінальним кодексом України.</a:t>
              </a:r>
              <a:r>
                <a:rPr b="0" lang="uk-UA" sz="4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26" name="Рисунок 3" descr=""/>
          <p:cNvPicPr/>
          <p:nvPr/>
        </p:nvPicPr>
        <p:blipFill>
          <a:blip r:embed="rId2"/>
          <a:stretch/>
        </p:blipFill>
        <p:spPr>
          <a:xfrm>
            <a:off x="6372360" y="414972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Подзаголовок 2"/>
          <p:cNvGrpSpPr/>
          <p:nvPr/>
        </p:nvGrpSpPr>
        <p:grpSpPr>
          <a:xfrm>
            <a:off x="0" y="0"/>
            <a:ext cx="9362880" cy="6967440"/>
            <a:chOff x="0" y="0"/>
            <a:chExt cx="9362880" cy="6967440"/>
          </a:xfrm>
        </p:grpSpPr>
        <p:pic>
          <p:nvPicPr>
            <p:cNvPr id="128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36288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600" y="302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                        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Ознаки злочину:</a:t>
              </a:r>
              <a:endParaRPr b="0" lang="en-US" sz="4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6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</a:t>
              </a:r>
              <a:r>
                <a:rPr b="0" lang="uk-UA" sz="32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1) </a:t>
              </a:r>
              <a:r>
                <a:rPr b="1" lang="uk-UA" sz="32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Передбаченість кримінальним</a:t>
              </a:r>
              <a:br>
                <a:rPr sz="3200"/>
              </a:br>
              <a:r>
                <a:rPr b="1" lang="uk-UA" sz="32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 законодавством.</a:t>
              </a:r>
              <a:r>
                <a:rPr b="0" lang="uk-UA" sz="32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 </a:t>
              </a:r>
              <a:r>
                <a:rPr b="0" lang="uk-UA" sz="32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2) </a:t>
              </a:r>
              <a:r>
                <a:rPr b="1" lang="uk-UA" sz="32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Суб'єкт злочину 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 </a:t>
              </a:r>
              <a:r>
                <a:rPr b="0" lang="uk-UA" sz="32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3) </a:t>
              </a:r>
              <a:r>
                <a:rPr b="1" lang="uk-UA" sz="32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Винність діяння</a:t>
              </a:r>
              <a:r>
                <a:rPr b="0" lang="uk-UA" sz="32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 </a:t>
              </a:r>
              <a:r>
                <a:rPr b="0" lang="uk-UA" sz="32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4) </a:t>
              </a:r>
              <a:r>
                <a:rPr b="1" lang="uk-UA" sz="32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Суспільна небезпечність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30" name="Рисунок 3" descr=""/>
          <p:cNvPicPr/>
          <p:nvPr/>
        </p:nvPicPr>
        <p:blipFill>
          <a:blip r:embed="rId2"/>
          <a:stretch/>
        </p:blipFill>
        <p:spPr>
          <a:xfrm>
            <a:off x="6372360" y="433692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4284720" y="333360"/>
            <a:ext cx="468000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  <a:ea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  <a:ea typeface="Arial"/>
              </a:rPr>
              <a:t>Стадії вчинення    злочину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  <a:ea typeface="Arial"/>
              </a:rPr>
              <a:t>1) підготовка до злочину</a:t>
            </a:r>
            <a:r>
              <a:rPr b="0" lang="uk-UA" sz="2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  <a:ea typeface="Arial"/>
              </a:rPr>
              <a:t>2) замах на злочин</a:t>
            </a:r>
            <a:r>
              <a:rPr b="0" lang="uk-UA" sz="2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  <a:ea typeface="Arial"/>
              </a:rPr>
              <a:t>3) закінчений злочин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Рисунок 4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554280" cy="52894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611280" y="616572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еміда – богиня правосуддя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Рисунок 3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0" y="0"/>
            <a:ext cx="9144000" cy="6733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0eaf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                              </a:t>
            </a:r>
            <a:r>
              <a:rPr b="1" lang="uk-UA" sz="3600" spc="-1" strike="noStrike">
                <a:solidFill>
                  <a:srgbClr val="080808"/>
                </a:solidFill>
                <a:latin typeface="Calibri"/>
                <a:ea typeface="Arial"/>
              </a:rPr>
              <a:t>Види злочинів</a:t>
            </a:r>
            <a:r>
              <a:rPr b="1" lang="en-US" sz="3600" spc="-1" strike="noStrike">
                <a:solidFill>
                  <a:srgbClr val="080808"/>
                </a:solidFill>
                <a:latin typeface="Calibri"/>
                <a:ea typeface="Arial"/>
              </a:rPr>
              <a:t>:</a:t>
            </a:r>
            <a:r>
              <a:rPr b="1" lang="uk-UA" sz="3600" spc="-1" strike="noStrike">
                <a:solidFill>
                  <a:srgbClr val="080808"/>
                </a:solidFill>
                <a:latin typeface="Calibri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Calibri"/>
                <a:ea typeface="Arial"/>
              </a:rPr>
              <a:t>    </a:t>
            </a:r>
            <a:r>
              <a:rPr b="0" lang="ru-RU" sz="2400" spc="-1" strike="noStrike">
                <a:solidFill>
                  <a:srgbClr val="080808"/>
                </a:solidFill>
                <a:latin typeface="Calibri"/>
                <a:ea typeface="Arial"/>
              </a:rPr>
              <a:t>1. 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Arial"/>
              </a:rPr>
              <a:t>Невеликої тяжкості</a:t>
            </a:r>
            <a:r>
              <a:rPr b="0" lang="ru-RU" sz="2400" spc="-1" strike="noStrike">
                <a:solidFill>
                  <a:srgbClr val="080808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80808"/>
                </a:solidFill>
                <a:latin typeface="Calibri"/>
                <a:ea typeface="Arial"/>
              </a:rPr>
              <a:t>(передбачено покарання до 2 років позбавлення полі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Calibri"/>
                <a:ea typeface="Arial"/>
              </a:rPr>
              <a:t>    </a:t>
            </a:r>
            <a:r>
              <a:rPr b="0" lang="ru-RU" sz="2400" spc="-1" strike="noStrike">
                <a:solidFill>
                  <a:srgbClr val="080808"/>
                </a:solidFill>
                <a:latin typeface="Calibri"/>
                <a:ea typeface="Arial"/>
              </a:rPr>
              <a:t>2. 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Arial"/>
              </a:rPr>
              <a:t>Середньої тяжкості</a:t>
            </a:r>
            <a:r>
              <a:rPr b="0" lang="ru-RU" sz="2400" spc="-1" strike="noStrike">
                <a:solidFill>
                  <a:srgbClr val="080808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80808"/>
                </a:solidFill>
                <a:latin typeface="Calibri"/>
                <a:ea typeface="Arial"/>
              </a:rPr>
              <a:t>(передбачено покарання до 5 років позбавлення волі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Calibri"/>
                <a:ea typeface="Arial"/>
              </a:rPr>
              <a:t>    </a:t>
            </a:r>
            <a:r>
              <a:rPr b="0" lang="ru-RU" sz="2400" spc="-1" strike="noStrike">
                <a:solidFill>
                  <a:srgbClr val="080808"/>
                </a:solidFill>
                <a:latin typeface="Calibri"/>
                <a:ea typeface="Arial"/>
              </a:rPr>
              <a:t>3. 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Arial"/>
              </a:rPr>
              <a:t>Тяжкі злочини</a:t>
            </a:r>
            <a:r>
              <a:rPr b="0" lang="ru-RU" sz="2400" spc="-1" strike="noStrike">
                <a:solidFill>
                  <a:srgbClr val="080808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80808"/>
                </a:solidFill>
                <a:latin typeface="Calibri"/>
                <a:ea typeface="Arial"/>
              </a:rPr>
              <a:t>(передбачено покарання до 10 років позбавлення волі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Calibri"/>
                <a:ea typeface="Arial"/>
              </a:rPr>
              <a:t>    </a:t>
            </a:r>
            <a:r>
              <a:rPr b="0" lang="ru-RU" sz="2400" spc="-1" strike="noStrike">
                <a:solidFill>
                  <a:srgbClr val="080808"/>
                </a:solidFill>
                <a:latin typeface="Calibri"/>
                <a:ea typeface="Arial"/>
              </a:rPr>
              <a:t>4. 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Arial"/>
              </a:rPr>
              <a:t>Особливо тяжкі</a:t>
            </a:r>
            <a:r>
              <a:rPr b="0" lang="ru-RU" sz="2400" spc="-1" strike="noStrike">
                <a:solidFill>
                  <a:srgbClr val="080808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80808"/>
                </a:solidFill>
                <a:latin typeface="Calibri"/>
                <a:ea typeface="Arial"/>
              </a:rPr>
              <a:t>(передбачено покарання більше 10 років позбавлення волі </a:t>
            </a:r>
            <a:br>
              <a:rPr sz="1600"/>
            </a:br>
            <a:r>
              <a:rPr b="0" lang="ru-RU" sz="1600" spc="-1" strike="noStrike">
                <a:solidFill>
                  <a:srgbClr val="080808"/>
                </a:solidFill>
                <a:latin typeface="Calibri"/>
                <a:ea typeface="Arial"/>
              </a:rPr>
              <a:t>     або довічне позбавлення волі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Рисунок 2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584360" cy="1654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Объект 4" descr=""/>
          <p:cNvPicPr/>
          <p:nvPr/>
        </p:nvPicPr>
        <p:blipFill>
          <a:blip r:embed="rId1"/>
          <a:srcRect l="0" t="0" r="4450" b="0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Текст 3"/>
          <p:cNvGrpSpPr/>
          <p:nvPr/>
        </p:nvGrpSpPr>
        <p:grpSpPr>
          <a:xfrm>
            <a:off x="-252360" y="0"/>
            <a:ext cx="4596840" cy="6967440"/>
            <a:chOff x="-252360" y="0"/>
            <a:chExt cx="4596840" cy="6967440"/>
          </a:xfrm>
        </p:grpSpPr>
        <p:pic>
          <p:nvPicPr>
            <p:cNvPr id="139" name="Текст 3" descr=""/>
            <p:cNvPicPr/>
            <p:nvPr/>
          </p:nvPicPr>
          <p:blipFill>
            <a:blip r:embed="rId2"/>
            <a:stretch/>
          </p:blipFill>
          <p:spPr>
            <a:xfrm>
              <a:off x="-252360" y="0"/>
              <a:ext cx="459684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-28440" y="30240"/>
              <a:ext cx="4142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Склад злочину</a:t>
              </a: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: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 Суб'єкт злочину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. </a:t>
              </a:r>
              <a:r>
                <a:rPr b="0" lang="uk-UA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О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б'єкт злочину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. Суб'єктивна сторона    </a:t>
              </a:r>
              <a:br>
                <a:rPr sz="2400"/>
              </a:br>
              <a:r>
                <a:rPr b="0" lang="ru-RU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злочину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. Об'єктивна сторона</a:t>
              </a:r>
              <a:br>
                <a:rPr sz="2400"/>
              </a:br>
              <a:r>
                <a:rPr b="0" lang="ru-RU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злочину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Объект 3"/>
          <p:cNvGrpSpPr/>
          <p:nvPr/>
        </p:nvGrpSpPr>
        <p:grpSpPr>
          <a:xfrm>
            <a:off x="-212760" y="-30240"/>
            <a:ext cx="9509040" cy="6967440"/>
            <a:chOff x="-212760" y="-30240"/>
            <a:chExt cx="9509040" cy="6967440"/>
          </a:xfrm>
        </p:grpSpPr>
        <p:pic>
          <p:nvPicPr>
            <p:cNvPr id="142" name="Объект 3" descr=""/>
            <p:cNvPicPr/>
            <p:nvPr/>
          </p:nvPicPr>
          <p:blipFill>
            <a:blip r:embed="rId1"/>
            <a:stretch/>
          </p:blipFill>
          <p:spPr>
            <a:xfrm>
              <a:off x="-212760" y="-30240"/>
              <a:ext cx="950904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           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Види співучасників: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                                </a:t>
              </a:r>
              <a:r>
                <a:rPr b="0" lang="ru-RU" sz="25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 Виконавець</a:t>
              </a:r>
              <a:endParaRPr b="0" lang="en-US" sz="2500" spc="-1" strike="noStrike">
                <a:solidFill>
                  <a:srgbClr val="ffffff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               </a:t>
              </a:r>
              <a:r>
                <a:rPr b="0" lang="ru-RU" sz="2500" spc="-1" strike="noStrike">
                  <a:solidFill>
                    <a:srgbClr val="ffffff"/>
                  </a:solidFill>
                  <a:latin typeface="Arial"/>
                  <a:ea typeface="Arial"/>
                </a:rPr>
                <a:t>2. Організатор</a:t>
              </a:r>
              <a:endParaRPr b="0" lang="en-US" sz="2500" spc="-1" strike="noStrike">
                <a:solidFill>
                  <a:srgbClr val="ffffff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               </a:t>
              </a:r>
              <a:r>
                <a:rPr b="0" lang="ru-RU" sz="2500" spc="-1" strike="noStrike">
                  <a:solidFill>
                    <a:srgbClr val="ffffff"/>
                  </a:solidFill>
                  <a:latin typeface="Arial"/>
                  <a:ea typeface="Arial"/>
                </a:rPr>
                <a:t>3. Підмовник</a:t>
              </a:r>
              <a:br>
                <a:rPr sz="2500"/>
              </a:br>
              <a:r>
                <a:rPr b="0" lang="ru-RU" sz="25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           4. Пособник</a:t>
              </a:r>
              <a:r>
                <a:rPr b="0" lang="ru-RU" sz="2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44" name="Рисунок 4" descr=""/>
          <p:cNvPicPr/>
          <p:nvPr/>
        </p:nvPicPr>
        <p:blipFill>
          <a:blip r:embed="rId2"/>
          <a:stretch/>
        </p:blipFill>
        <p:spPr>
          <a:xfrm>
            <a:off x="5364000" y="3772080"/>
            <a:ext cx="3448080" cy="273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Program Files\Microsoft Office\MEDIA\CAGCAT10\j0300840.wmf"/>
          <p:cNvPicPr/>
          <p:nvPr/>
        </p:nvPicPr>
        <p:blipFill>
          <a:blip r:embed="rId3"/>
          <a:stretch/>
        </p:blipFill>
        <p:spPr>
          <a:xfrm>
            <a:off x="395280" y="1557360"/>
            <a:ext cx="18162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Объект 2"/>
          <p:cNvGrpSpPr/>
          <p:nvPr/>
        </p:nvGrpSpPr>
        <p:grpSpPr>
          <a:xfrm>
            <a:off x="-328680" y="-30240"/>
            <a:ext cx="9528120" cy="6967440"/>
            <a:chOff x="-328680" y="-30240"/>
            <a:chExt cx="9528120" cy="6967440"/>
          </a:xfrm>
        </p:grpSpPr>
        <p:pic>
          <p:nvPicPr>
            <p:cNvPr id="147" name="Объект 2" descr=""/>
            <p:cNvPicPr/>
            <p:nvPr/>
          </p:nvPicPr>
          <p:blipFill>
            <a:blip r:embed="rId1"/>
            <a:stretch/>
          </p:blipFill>
          <p:spPr>
            <a:xfrm>
              <a:off x="-328680" y="-30240"/>
              <a:ext cx="95281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                                                      </a:t>
              </a:r>
              <a:r>
                <a:rPr b="1" lang="ru-RU" sz="32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Форма вини: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                                                </a:t>
              </a:r>
              <a:r>
                <a:rPr b="0" lang="ru-RU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1. Умисел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                                                </a:t>
              </a:r>
              <a:r>
                <a:rPr b="0" lang="ru-RU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2. Необережність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                                                </a:t>
              </a:r>
              <a:r>
                <a:rPr b="0" lang="ru-RU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3. Злочинна недбалість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                                                </a:t>
              </a:r>
              <a:r>
                <a:rPr b="0" lang="ru-RU" sz="24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4. Злочинна самовпевненість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49" name="Picture 2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6337440" y="4149720"/>
            <a:ext cx="2336760" cy="2386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Program Files\Microsoft Office\MEDIA\CAGCAT10\j0292020.wmf"/>
          <p:cNvPicPr/>
          <p:nvPr/>
        </p:nvPicPr>
        <p:blipFill>
          <a:blip r:embed="rId3"/>
          <a:stretch/>
        </p:blipFill>
        <p:spPr>
          <a:xfrm>
            <a:off x="324000" y="333360"/>
            <a:ext cx="2585880" cy="2454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Объект 2"/>
          <p:cNvGrpSpPr/>
          <p:nvPr/>
        </p:nvGrpSpPr>
        <p:grpSpPr>
          <a:xfrm>
            <a:off x="-237960" y="-30240"/>
            <a:ext cx="9693000" cy="6967440"/>
            <a:chOff x="-237960" y="-30240"/>
            <a:chExt cx="9693000" cy="6967440"/>
          </a:xfrm>
        </p:grpSpPr>
        <p:pic>
          <p:nvPicPr>
            <p:cNvPr id="152" name="Объект 2" descr=""/>
            <p:cNvPicPr/>
            <p:nvPr/>
          </p:nvPicPr>
          <p:blipFill>
            <a:blip r:embed="rId1"/>
            <a:stretch/>
          </p:blipFill>
          <p:spPr>
            <a:xfrm>
              <a:off x="-237960" y="-30240"/>
              <a:ext cx="969300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80808"/>
                  </a:solidFill>
                  <a:latin typeface="Calibri"/>
                </a:rPr>
                <a:t>	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                  </a:t>
              </a:r>
              <a:r>
                <a:rPr b="1" lang="ru-RU" sz="28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Кримінальна    відповідальність</a:t>
              </a:r>
              <a:r>
                <a:rPr b="0" i="1" lang="ru-RU" sz="28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</a:t>
              </a:r>
              <a:r>
                <a:rPr b="0" lang="ru-RU" sz="28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—    вид</a:t>
              </a:r>
              <a:br>
                <a:rPr sz="2800"/>
              </a:br>
              <a:r>
                <a:rPr b="0" lang="ru-RU" sz="28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юридичної відповідальності, що встановлюється</a:t>
              </a:r>
              <a:br>
                <a:rPr sz="2800"/>
              </a:br>
              <a:r>
                <a:rPr b="0" lang="ru-RU" sz="28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державою у кримінальному законі, накладається</a:t>
              </a:r>
              <a:br>
                <a:rPr sz="2800"/>
              </a:br>
              <a:r>
                <a:rPr b="0" lang="ru-RU" sz="2800" spc="-1" strike="noStrike">
                  <a:solidFill>
                    <a:srgbClr val="080808"/>
                  </a:solidFill>
                  <a:latin typeface="Calibri"/>
                  <a:ea typeface="Arial"/>
                </a:rPr>
                <a:t>     судом на осіб, винних у скоєнні злочину.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54" name="Рисунок 4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87972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6:37:47Z</dcterms:created>
  <dc:creator>Пользователь</dc:creator>
  <dc:description/>
  <dc:language>en-US</dc:language>
  <cp:lastModifiedBy>User</cp:lastModifiedBy>
  <dcterms:modified xsi:type="dcterms:W3CDTF">2013-02-18T18:55:48Z</dcterms:modified>
  <cp:revision>29</cp:revision>
  <dc:subject/>
  <dc:title>Презентация на тему: «Уголовное право»</dc:title>
</cp:coreProperties>
</file>