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C47-9EC9-47FC-BB53-DC0178B7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8B7-1AB0-4B97-89DA-D2843E2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BB1-3ECA-479E-B1E1-F56A1984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4FD-5C7F-4767-B754-1D96917C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C9B-845A-4A41-B700-CB563C75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F426-5E05-448E-9404-48A5F595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D87E-BE53-416E-8115-89C34F36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B22-1021-4E04-AC98-C8240F30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EFF-A732-4DE0-AAF2-38DA3F7C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F06E-D554-422A-AE6C-4A16839C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94F8-EABD-4338-BC01-3BE23F0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D15-48D0-40C6-BC4C-35727017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FF33-2A07-439B-953D-153D4E8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A6A0-BF4E-4F57-A0D2-65F5379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28F4-C3D3-4649-BE7C-ED146274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B6C-F680-4D70-8A44-23B88020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664-F69B-40FF-8243-F13A6ED3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488E-7E93-4604-9B1A-BDDCD301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AD8D-BD4A-4F62-9FF4-64EB709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4FF0-A2C8-45A1-BD15-D526ECF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9C5C-B62F-453E-898F-88CE6B2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365A-C130-448B-83F7-6926436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DFE-2C03-4911-8E7E-7F04F27B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58BF-71A8-4E4F-8210-258E5C3A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952C-3456-4D10-BEC4-993B066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A446-8589-4BAA-95E1-45880E3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B409-19A2-4A88-A8F4-2FCD8979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269E-EF7D-4271-BEA3-D76DF61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53E3-317A-4DFF-A87F-8984ABF4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E215-08EE-4B59-B8DE-40381121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0DBB-0715-4123-B066-70F46ADC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E8E2-CBF9-42BD-8286-E67792E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9919-58B7-4987-AA16-BA23165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5C1-14C3-4175-A9A2-65131B6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9B5F-DCFB-4AC1-9E5E-3900D60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18C7-6E98-4731-B906-49F92C6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2C25-9EB0-4F4E-BB10-DB703FCD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073E-4BCC-4823-B737-40F06AC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0967-A92F-486E-9D18-E34F96B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A9FA-C41F-4042-AE40-D023EF9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0270-F107-44C3-9BBE-39C36D2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892B-2E84-467F-8DEF-9E9DCC2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740D-282A-439E-A5AF-0580D99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9A58-718F-4403-8E68-B37B11A4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136-6FAE-4AD5-B918-4FF04F4B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79E5-66FD-4492-A012-B39A9B1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48FE-F156-485F-BCAE-348860F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ABEF4-E458-41D1-B155-C77F0AB7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E45E2-DF8C-4F7A-B9C6-C8033DD5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A966-B35F-4700-B6CD-17BA365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368C-615C-4EDA-9386-B0ABFF5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3CDE-6B0B-4B50-A23C-CAD36B3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6B32-71E0-4379-B716-3CDC3E3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8EAB-0702-46BA-85EB-5BE9A9D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0A07-CF13-4B81-A800-3367E358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CE9-783A-4AC3-BDE5-BB899D64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872B-91D9-421F-8C91-5E0DD579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538-AFCB-4E17-AF91-36C5EDD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2CC-5B0E-48FA-93C9-49B4B44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D13-0F4F-4EBE-8534-46C3F69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989D-F742-41A8-BE0D-31A865628E8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C5F-A3B4-4E0D-A95C-094AEB783C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28A8-56ED-45C8-8158-1366DE5CAA0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F55-DF8D-4469-A965-28CC723471B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AFE-D926-4B07-8C29-A5B0B7E0026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633240" y="633240"/>
            <a:ext cx="8205840" cy="2329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86040" y="3357720"/>
            <a:ext cx="6143760" cy="33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Злочини та проступ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Склад правопорушення та склад злочин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Групи злочині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Співучасники злочин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Основні типи злочині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Як уберегтися від злочин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01"/>
              </a:spcBef>
              <a:buClr>
                <a:srgbClr val="b13f9a"/>
              </a:buClr>
              <a:buSzPct val="73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0f17"/>
                </a:solidFill>
                <a:latin typeface="Georgia"/>
              </a:rPr>
              <a:t>Якщо ви стали свідком злочин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7419960" cy="53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857160"/>
            <a:ext cx="723888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Georgia"/>
              </a:rPr>
              <a:t>Як уберегтися від квартирних крадіжок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Міцні засуви, міцні двері, не залишати відкритими вікна, особливо на першому поверсі, поруч із пожежними східцями;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Більше світла в під'їзді, на сходових майданчиках в коридорах, обладнання усіх дверей дверними вічками;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Увага – на ключі : не зберігайте ключі разом із документами, під килимом біля дверей, в іншому умовленому місці;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Не давайте незнайомцям інформацію про себе;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Уважно відчиняйте двері, не приводьте випадкових або малознайомих людей додому;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c6c6c"/>
                </a:solidFill>
                <a:latin typeface="Georgia"/>
              </a:rPr>
              <a:t>Якщо ви, входячи до квартири, виявили щось підозріле (зламані двері, шум у квартирі) – нічого не торкайтеся, краще подзвонити до міліції від сусідів. Не варто рватися в бій – здоров'я дорожче майна</a:t>
            </a:r>
            <a:endParaRPr b="0" lang="en-US" sz="2000" spc="-1" strike="noStrike">
              <a:solidFill>
                <a:srgbClr val="6c6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7120" y="499680"/>
            <a:ext cx="750096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к уберегтися від грабежів і насильств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Не ходить поодинці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Будьте уважними до нових знайомств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Не вживайте алкоголь або наркотики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Не панікуйте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Дійте спокійно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6c6c6c"/>
                </a:solidFill>
                <a:latin typeface="Georgia"/>
              </a:rPr>
              <a:t>Якщо вас переслідують – прямуйте до людних місць, перейдіть на біг, кричить: пожежа! Горимо!” </a:t>
            </a:r>
            <a:endParaRPr b="0" lang="en-US" sz="2300" spc="-1" strike="noStrike">
              <a:solidFill>
                <a:srgbClr val="6c6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493040" cy="792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8000" y="119700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лочин – це порушення людиною заборон кримінального закону чи, навпаки, невиконання нею того, що вимагає закон. За такі дії чи бездіяльність передбачено кримінальну відповідальні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роступок – це протиправні дії чи бездіяльність, за які настає адміністративна відповідальність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они є менш небезпечними, ніж злочини. До проступків відносяться: порушення правил дорожнього руху, пошкодження майна, нецензурна лайка, паління у заборонених місцях тощ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rebuchet MS"/>
              </a:rPr>
              <a:t>Правопорушення </a:t>
            </a:r>
            <a:r>
              <a:rPr b="1" lang="uk-UA" sz="25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uk-UA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Trebuchet MS"/>
              </a:rPr>
              <a:t>це протиправне, винне діяння, що завдає шкоду особі, суспільству або державі.</a:t>
            </a:r>
            <a:r>
              <a:rPr b="1" lang="uk-UA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знак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правопорушення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уперечність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нкретному правовому припису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невиконання обов’язку або порушення заборони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на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авопорушенням є лише діяння, вчинене навмисно або з необережності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3) завдання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або реальна  загроза завдання шкоди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собі, суспільству або державі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4) правопорушення проявляється у протиправних діях чи бездіяльності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5) відповідальним за правопорушення може бути тільки фізична чи юридична особа, здатна нести відповідальність за свої дії (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Georgia"/>
              </a:rPr>
              <a:t>деліктоздатна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особа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rebuchet MS"/>
              </a:rPr>
              <a:t>До складу правопорушення входять: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uk-UA" sz="1700" spc="-1" strike="noStrike" u="sng">
                <a:solidFill>
                  <a:srgbClr val="000000"/>
                </a:solidFill>
                <a:uFillTx/>
                <a:latin typeface="Georgia"/>
              </a:rPr>
              <a:t>суб’єкт правопорушення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– деліктоздатна фізична чи юридична особа. Зазвичай правопорушення вчиняють фізичні особи (а злочини – виключно фізичні особи), але суб’єктом цивільного проступку може бути й юридична особа;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lang="uk-UA" sz="1700" spc="-1" strike="noStrike" u="sng">
                <a:solidFill>
                  <a:srgbClr val="000000"/>
                </a:solidFill>
                <a:uFillTx/>
                <a:latin typeface="Georgia"/>
              </a:rPr>
              <a:t>об’єкт правопорушення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– суспільні відносини, соціальні блага, цінності, права і свободи особи, інтереси держави, на які посягає правопорушник;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lang="uk-UA" sz="1700" spc="-1" strike="noStrike" u="sng">
                <a:solidFill>
                  <a:srgbClr val="000000"/>
                </a:solidFill>
                <a:uFillTx/>
                <a:latin typeface="Georgia"/>
              </a:rPr>
              <a:t>суб’єктивна сторона</a:t>
            </a: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правопорушення – ставлення особи до вчинюваного нею діяння та його наслідків. Головний елемент суб’єктивної сторони – вина у формі умислу або необережності. Факультативними (необов’язковими) елементами суб’єктивної сторони є мотив і мета правопорушення. Відповідальність за цивільний проступок може наставати і за відсутності вини (у випадках, спеціально обумовлених законом);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4) </a:t>
            </a:r>
            <a:r>
              <a:rPr b="1" lang="uk-UA" sz="1700" spc="-1" strike="noStrike" u="sng">
                <a:solidFill>
                  <a:srgbClr val="000000"/>
                </a:solidFill>
                <a:uFillTx/>
                <a:latin typeface="Georgia"/>
              </a:rPr>
              <a:t>об’єктивна сторона</a:t>
            </a: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правопорушення – це зовнішня характеристика правопорушення, що включає протиправне діяння (дію чи бездіяльність), результат діяння і причинний зв’язок між діянням і результатом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Відсутність хоч би одного з зазначених елементів свідчить, що цей акт поведінки не є правопорушенням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1428480"/>
            <a:ext cx="7472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лочини невеликої  тяжкості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– це такі злочини, за які передбачено покарання у вигляді позбавлення волі на строк до 2 років та більш м'які покарання, оскільки наслідки від таких дій є незначними </a:t>
            </a:r>
            <a:r>
              <a:rPr b="0" i="1" lang="uk-UA" sz="2600" spc="-1" strike="noStrike">
                <a:solidFill>
                  <a:srgbClr val="000000"/>
                </a:solidFill>
                <a:latin typeface="Georgia"/>
              </a:rPr>
              <a:t>(шахрайство, крадіжка, експлуатація дітей тощо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лочини середньої тяжкості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– злочини, за які передбачено покарання у вигляді позбавлення волі на строк до 5 років </a:t>
            </a:r>
            <a:r>
              <a:rPr b="0" i="1" lang="uk-UA" sz="2600" spc="-1" strike="noStrike">
                <a:solidFill>
                  <a:srgbClr val="000000"/>
                </a:solidFill>
                <a:latin typeface="Georgia"/>
              </a:rPr>
              <a:t>(наруга над могилою, вимагання, вбивство через необережність, тощо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Тяжкі злочин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– цє такі, за які передбачено покарання у вигляді позбавлення волі на строк до 10 років </a:t>
            </a:r>
            <a:r>
              <a:rPr b="0" i="1" lang="uk-UA" sz="2600" spc="-1" strike="noStrike">
                <a:solidFill>
                  <a:srgbClr val="000000"/>
                </a:solidFill>
                <a:latin typeface="Georgia"/>
              </a:rPr>
              <a:t>(розбій, захоплення заручників, торгівля людьми).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також злочини, які привели до втрати потерпілим органу чи його функцій, психічної хвороби, знівечення обличч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Особливо тяжкі злочин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- за які передбачено покарання у вигляді позбавлення волі на строк понад 10 років або довічне позбавлення волі </a:t>
            </a:r>
            <a:r>
              <a:rPr b="0" i="1" lang="uk-UA" sz="2600" spc="-1" strike="noStrike">
                <a:solidFill>
                  <a:srgbClr val="000000"/>
                </a:solidFill>
                <a:latin typeface="Georgia"/>
              </a:rPr>
              <a:t>(умисне вбивство двох і більше осіб, бандитизм, терористичний акт тощо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85840" y="1142640"/>
            <a:ext cx="741024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півучасть у злочині – це умисна спільна участь декількох суб'єктів  злочину у вчиненні умисного злочин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Співучасником злочину буде, наприклад, той, хто намовить інших обікрасти квартиру, і той, хто за домовленістю з іншими слідкуватиме за тим, щоб не було випадкових свідків, і той, хто виготовлятиме ключі або відмички до чужої квартири, і той, хто скуповуватиме крадені речі, переховуватиме крадіїв, чи здобуте злочинним шляхом майно тощо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півучасниками злочину вважаються 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5c1f34"/>
                </a:solidFill>
                <a:latin typeface="Georgia"/>
              </a:rPr>
              <a:t>Виконавець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5c1f34"/>
                </a:solidFill>
                <a:latin typeface="Georgia"/>
              </a:rPr>
              <a:t>Організатор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5c1f34"/>
                </a:solidFill>
                <a:latin typeface="Georgia"/>
              </a:rPr>
              <a:t>Підбурювач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5c1f34"/>
                </a:solidFill>
                <a:latin typeface="Georgia"/>
              </a:rPr>
              <a:t>Пособник.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57200" y="1643040"/>
          <a:ext cx="7238880" cy="4643640"/>
        </p:xfrm>
        <a:graphic>
          <a:graphicData uri="http://schemas.openxmlformats.org/drawingml/2006/table">
            <a:tbl>
              <a:tblPr/>
              <a:tblGrid>
                <a:gridCol w="1685880"/>
                <a:gridCol w="1928880"/>
                <a:gridCol w="362412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ття 38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авідомо неправдиве повідомлення про   вчинення злоч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Завідомо неправдиве повідомлення суду, прокурору, слідчому або органу дізнання про вчинення злоч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Виправні роботи на строк до 2 років або арештом на строк до 6 місяців, або обмеженням волі на строк до 3 років, або позбавленням волі на строк до 2 ро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ття 38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4b7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авідомо неправдиве показ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4b7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Завідомо неправдиве показання свідка чи потерпілог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Виправні роботи на строк до 2 років або арештом на строк до 6 місяців, або обмеженням волі на строк до 2 ро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7419960" cy="9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6840" y="1357200"/>
            <a:ext cx="74725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лочини проти людей (їх життя та здоров'я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Вбивство – заподіяння смерті іншій людині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Нанесення тілесних ушкоджень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Побої та катування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Сексуальні злочини (зґвалтування, сексуальне зловживання, розбещення неповнолітніх);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лочини проти власност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Крадіжка, грабіж, розбій, вимагання, шахрайство тощо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лочини (проступки) проти громадського порядк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6c6c6c"/>
                </a:solidFill>
                <a:latin typeface="Georgia"/>
              </a:rPr>
              <a:t>Хуліганство, дрібне хуліганство, порушення громадського порядку, наруга над могилою та інше.</a:t>
            </a:r>
            <a:endParaRPr b="0" lang="en-US" sz="2100" spc="-1" strike="noStrike">
              <a:solidFill>
                <a:srgbClr val="6c6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5:54:17Z</dcterms:created>
  <dc:creator>Sigitov</dc:creator>
  <dc:description/>
  <dc:language>en-US</dc:language>
  <cp:lastModifiedBy>user</cp:lastModifiedBy>
  <dcterms:modified xsi:type="dcterms:W3CDTF">2011-04-19T08:07:24Z</dcterms:modified>
  <cp:revision>3</cp:revision>
  <dc:subject/>
  <dc:title>Злочини та проступки.  Як не стати жертвою злочину</dc:title>
</cp:coreProperties>
</file>